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384200" y="685440"/>
            <a:ext cx="408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C06F-1668-43F5-B352-844EE9598C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8836-F4ED-4CC3-8878-B00A961B837D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Ne tik daudz bsc mums svarīgs, paņemam rādītāju apkopošanas praksi, definēšanas piee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2C3-F040-47F3-AA6F-78184340F3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AC0-D1F3-476E-BDDF-2CE55E74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711-4C4A-4CAC-9DBD-9335EAA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A2C-8210-4E32-B3FD-8C72E353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99A-639B-4F69-A60C-D207E2E2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7BD7-75BB-47E5-9407-4731F9D2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3C2-603C-4D3A-A20C-FD5B44D8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911A-6E18-41C2-8209-4AAEF04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6157-9B8D-4601-B396-19C2A9CA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9539-4E74-4F4F-85AC-6F9D7DB3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7843-BC65-4DBD-A4AC-B7346959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6231-53EE-491C-B861-F13006F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C18-4BD9-4F45-9171-2BBD456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9C7A-3CF7-4CDA-871B-810508F4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FEE-4DF2-401E-B900-7011C13C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2F24-7330-4E7D-843B-56E297EF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9518-9EE4-4BFC-A8E3-97D93810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A0E-73EC-43EF-B182-022EE9F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CCD1-8DC1-4B8C-92BA-94A3AEB2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6115-7CC8-4DB9-95D0-90BE34D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A549-4AD8-4538-9901-ED56B5B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A384-F97C-43E7-BEAB-BACA46BD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DC66-489B-4539-A8D8-56680E45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067-0D46-4C81-91EF-7BF32F9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9B2F-CEFD-45BD-960F-3A28318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1AF0-E17D-4198-951D-C786D2F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C9AA-B900-4C15-AD36-7BD2888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16EE-C42E-408A-AA6C-2ABDE7E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AA81B-BE7E-4590-B776-8AD7922F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66EB-C828-44F0-93EA-154A2949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0064-407B-4251-922E-41DB9F37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4957-2A5A-4A9B-983C-D86ADFE4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1675-0053-4FBC-8842-B9DB0D16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9BBA-C6BF-46FA-9C67-FDC9E692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4D6-FA63-443C-9D28-84629C9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B2FC-E684-4D54-BF4D-4DCF5B2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BEB4-E6B8-420F-9E9F-B4C2F8D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8918-CBB4-47C0-8DAF-8E5EC4A3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082D-F024-4BDA-B231-0A0BBB9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C2E8B-6325-4C68-818A-32C40D6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3C00-7BAD-4756-8F41-8CFAFB5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75A3-1A1C-4BE0-85F9-B08D3C5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D8EC-5AB9-4A7D-BD9E-FBA995B3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3425-D8AE-4461-9B48-68B3D570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C28-3C28-4891-9322-20DFD539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DAB-D4E1-4EAC-9FA0-C8D08720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38D-D7FC-4BE2-8D51-EE74E1E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7A4-3630-4074-A6F1-B3F649C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C8C-38A0-451E-8A1C-15C366D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575-2293-462C-A578-1FBCBC45D922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4C7-05C1-4D13-A143-FB101ED5101E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F332-04CF-45CD-BC16-42945B27F4C0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E01-7BAC-4589-B516-E74F95951FB0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920" y="4092120"/>
            <a:ext cx="6858000" cy="21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ZULTATĪVO RĀDĪTĀJU SISTĒMAS UN DATU ANALĪZES </a:t>
            </a: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PRAKSE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IZPĒTE IESLODZĪJUMA VIETU PĀRVALDĒ UN VALSTS PROBĀCIJAS DIENESTĀ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15640" y="6416280"/>
            <a:ext cx="4032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Veronika Linkum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vars Solovjovs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254640" y="6697800"/>
            <a:ext cx="2664000" cy="826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2800"/>
            </a:b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 (turp.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s rādītāju iegūšanas, apkopošanas un analīzes process (katrai iestādei atsevišķi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i priekšlikumi secīgai rādītāju sistēmas ieviešanai abās iestādēs pēc pētījuma beig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1520" y="2406600"/>
            <a:ext cx="38782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57200" y="278280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983960"/>
            <a:ext cx="55688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39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EB37-94E3-4A30-869A-0C1B02E1BC3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9557-55B6-4718-9257-2AAF1E5AF01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sistēma - informācijas, procesu un IS kopums, kas nodrošina organizācijas vadībai iespēju sekot līdzi iestādes darbības dažādiem aspektiem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Galvenās komponentes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Rādītāju kopa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- raksturo iestādes darbību un ietekme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rocesi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 - nodrošina informācijas apkopošanu un analīz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ienākumi un atbildība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kas par ko atbild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IT atbalst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informācijas sistēmas kas nodrošina rādītāju apkopošanu un analīzi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7D15-3F29-41B7-B9F0-8C7F0AC5D39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B390-604C-400B-8181-92DCAF1DF494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106720"/>
            <a:ext cx="49068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s (indikators, metrika) – objekta raksturojums, kas kvantitatīvi raksturo tā īpašības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manto, l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Definētu mērāmus mērķu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vērtētu mērķu sasniegšanu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savstarpējo salīdzināšanu starp dažādiem objektiem (</a:t>
            </a:r>
            <a:r>
              <a:rPr b="0" i="1" lang="lv-LV" sz="2400" spc="-1" strike="noStrike">
                <a:solidFill>
                  <a:srgbClr val="061140"/>
                </a:solidFill>
                <a:latin typeface="Calibri"/>
              </a:rPr>
              <a:t>benchmarking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ietekmes (cēloņsakarības) analīzi starp dažādiem faktor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B25D-7E3C-47F4-BE1F-00253EC499B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1B6B-8A4D-4D7B-B086-A40F6910A83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5076720" y="2647800"/>
            <a:ext cx="40467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rakstur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Nosaukums/aprakst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Rādītāja izmantošana mērķis (pamatojums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Mērīšana nav pašmērķis – tai ir kaut kāda jēga/ieguvums, kas samērojams ar mērīšanas izmaksām!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Skalārs vai konsolidēts rādītāj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Ja konsolidēts, tad svarīgi ir konsolidācijas algoritms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vienība (skaits, procenti u.c.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intervāl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metode, datu avoti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ķa vērtības  un vērtību koridori uz laika as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Faktiskās vērtība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DDCE-0A0E-4124-8B95-D77A426F9D1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21B3-AC57-4C8E-809E-5E05D35049E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1D4-731A-46EB-922C-40A75BCC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Balanced Scorecar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147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Calibri"/>
              </a:rPr>
              <a:t>Balanced ScoreCard (BSC)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ir organizācijas stratēģiskās vadības sistēma, kas balstās uz organizācijas hierarhisku darbības rādītāju noteikšanu un mērīšan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Autori - Robert S. Kaplan un David Norton (1992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BSC ir šobrīd viena no populārākajām stratēģijas īstenošanas un darbības efektivitātes vadības metodē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6785-C528-45CB-9E4F-1D78212071E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standarta dimensij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5520-C941-46E1-A66E-240E694251A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4EC6-25AF-476C-9C43-30F04CA63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2"/>
          <p:cNvGraphicFramePr/>
          <p:nvPr/>
        </p:nvGraphicFramePr>
        <p:xfrm>
          <a:off x="1042920" y="2041560"/>
          <a:ext cx="68724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41560"/>
                    <a:ext cx="68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kritika un alternatīv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95280" y="2251080"/>
            <a:ext cx="4824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 visur un vienmēr BSC standarta 4 dimensijas ir būtisk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tiek šķiroti darbības un iznākuma rādītāji (īpaši būtiski publiskajā sektorā)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Bieži tiek veidotas rādītāju kartes ar citu grupējumu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Publiskajā sektorā izmantojams BSC principu «krustojums» ar programmu loģisko model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2834-8F75-4A1B-8FF5-754DF277B74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CD7F-720C-4F36-ADEE-AB99475D2CF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33480" y="2374920"/>
            <a:ext cx="39621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968400" y="3591000"/>
            <a:ext cx="5786280" cy="1677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Loģiskais modelis un rādītāj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ate Placeholder 2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E967-FAD6-4ED8-9DA4-0529C8A6533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27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3B9-A2F3-4E07-B57E-D1F9B70B224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254240" y="3830760"/>
            <a:ext cx="157140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Resu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18276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 (proce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11164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s rezultā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040520" y="2220840"/>
            <a:ext cx="1571760" cy="240840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i (iznāku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8"/>
          <p:cNvSpPr/>
          <p:nvPr/>
        </p:nvSpPr>
        <p:spPr>
          <a:xfrm>
            <a:off x="2897280" y="4070520"/>
            <a:ext cx="214200" cy="32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9"/>
          <p:cNvSpPr/>
          <p:nvPr/>
        </p:nvSpPr>
        <p:spPr>
          <a:xfrm>
            <a:off x="4826160" y="4122720"/>
            <a:ext cx="21420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ight Arrow 10"/>
          <p:cNvSpPr/>
          <p:nvPr/>
        </p:nvSpPr>
        <p:spPr>
          <a:xfrm>
            <a:off x="6754680" y="4113360"/>
            <a:ext cx="21456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73280" y="319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5403240" y="31924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7252920" y="17589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473280" y="31924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1182960" y="478944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Organizācijas kontrol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71680" y="5748480"/>
            <a:ext cx="2174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sursu (inputs)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ersonāla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iliāļ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2857680" y="5748480"/>
            <a:ext cx="20001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ces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a sagatavošanas ilg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929120" y="5748480"/>
            <a:ext cx="20001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espiedu darbu klient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7000920" y="5578560"/>
            <a:ext cx="16621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zraudzībā esošo klientu atkārtoto noziegumu sk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82520" y="2324160"/>
            <a:ext cx="1571760" cy="79848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biedrības vajadz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Curved Connector 37"/>
          <p:cNvCxnSpPr>
            <a:stCxn id="274" idx="2"/>
            <a:endCxn id="275" idx="2"/>
          </p:cNvCxnSpPr>
          <p:nvPr/>
        </p:nvCxnSpPr>
        <p:spPr>
          <a:xfrm flipH="1" rot="16200000">
            <a:off x="4931280" y="3665160"/>
            <a:ext cx="3960" cy="1931400"/>
          </a:xfrm>
          <a:prstGeom prst="curvedConnector5">
            <a:avLst>
              <a:gd name="adj1" fmla="val 18660000"/>
              <a:gd name="adj2" fmla="val 50000"/>
              <a:gd name="adj3" fmla="val 18660000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291" name="Curved Connector 41"/>
          <p:cNvCxnSpPr/>
          <p:nvPr/>
        </p:nvCxnSpPr>
        <p:spPr>
          <a:xfrm flipH="1" rot="16200000">
            <a:off x="6931440" y="3585960"/>
            <a:ext cx="2520" cy="1929240"/>
          </a:xfrm>
          <a:prstGeom prst="curvedConnector5">
            <a:avLst>
              <a:gd name="adj1" fmla="val 35066666"/>
              <a:gd name="adj2" fmla="val 50000"/>
              <a:gd name="adj3" fmla="val 35066666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sp>
        <p:nvSpPr>
          <p:cNvPr id="292" name="TextBox 42"/>
          <p:cNvSpPr/>
          <p:nvPr/>
        </p:nvSpPr>
        <p:spPr>
          <a:xfrm>
            <a:off x="4061880" y="527544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duktivitāte (effici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6363720" y="527544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Lietderīgums (efectiven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5"/>
          <p:cNvCxnSpPr>
            <a:stCxn id="289" idx="3"/>
          </p:cNvCxnSpPr>
          <p:nvPr/>
        </p:nvCxnSpPr>
        <p:spPr>
          <a:xfrm>
            <a:off x="1754280" y="2722320"/>
            <a:ext cx="5286960" cy="1080"/>
          </a:xfrm>
          <a:prstGeom prst="straightConnector1">
            <a:avLst/>
          </a:prstGeom>
          <a:ln w="28440">
            <a:solidFill>
              <a:srgbClr val="42557f"/>
            </a:solidFill>
            <a:prstDash val="dash"/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3836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Projekta jomas loģiskā modeļa shē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119-06AF-4E47-890C-29BE3ACB195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89040" y="1695600"/>
            <a:ext cx="2354040" cy="176508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V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89040" y="4648320"/>
            <a:ext cx="2354040" cy="176364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Ie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xagon 12"/>
          <p:cNvSpPr/>
          <p:nvPr/>
        </p:nvSpPr>
        <p:spPr>
          <a:xfrm>
            <a:off x="2511360" y="1876320"/>
            <a:ext cx="1397160" cy="6876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xagon 13"/>
          <p:cNvSpPr/>
          <p:nvPr/>
        </p:nvSpPr>
        <p:spPr>
          <a:xfrm>
            <a:off x="2511360" y="2660760"/>
            <a:ext cx="1397160" cy="68724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xagon 15"/>
          <p:cNvSpPr/>
          <p:nvPr/>
        </p:nvSpPr>
        <p:spPr>
          <a:xfrm>
            <a:off x="2625840" y="4848120"/>
            <a:ext cx="1396800" cy="6876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xagon 16"/>
          <p:cNvSpPr/>
          <p:nvPr/>
        </p:nvSpPr>
        <p:spPr>
          <a:xfrm>
            <a:off x="2625840" y="5632560"/>
            <a:ext cx="1396800" cy="6872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4533840" y="240984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4533840" y="345276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4533840" y="4336920"/>
            <a:ext cx="1603440" cy="5968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4533840" y="538164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6588000" y="3362400"/>
            <a:ext cx="1603440" cy="5950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6683400" y="450072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5"/>
          <p:cNvCxnSpPr>
            <a:stCxn id="299" idx="2"/>
          </p:cNvCxnSpPr>
          <p:nvPr/>
        </p:nvCxnSpPr>
        <p:spPr>
          <a:xfrm>
            <a:off x="3908160" y="2220840"/>
            <a:ext cx="626040" cy="357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0" name="Straight Arrow Connector 26"/>
          <p:cNvCxnSpPr/>
          <p:nvPr/>
        </p:nvCxnSpPr>
        <p:spPr>
          <a:xfrm flipV="1">
            <a:off x="3908160" y="2830320"/>
            <a:ext cx="626040" cy="195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1" name="Straight Arrow Connector 28"/>
          <p:cNvCxnSpPr>
            <a:stCxn id="300" idx="2"/>
            <a:endCxn id="304" idx="2"/>
          </p:cNvCxnSpPr>
          <p:nvPr/>
        </p:nvCxnSpPr>
        <p:spPr>
          <a:xfrm>
            <a:off x="3908160" y="3003120"/>
            <a:ext cx="626040" cy="748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2" name="Straight Arrow Connector 31"/>
          <p:cNvCxnSpPr/>
          <p:nvPr/>
        </p:nvCxnSpPr>
        <p:spPr>
          <a:xfrm flipV="1">
            <a:off x="4022640" y="2927160"/>
            <a:ext cx="511920" cy="22356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3" name="Straight Arrow Connector 33"/>
          <p:cNvCxnSpPr/>
          <p:nvPr/>
        </p:nvCxnSpPr>
        <p:spPr>
          <a:xfrm flipV="1">
            <a:off x="4022280" y="3956760"/>
            <a:ext cx="640440" cy="12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4" name="Straight Arrow Connector 38"/>
          <p:cNvCxnSpPr>
            <a:endCxn id="306" idx="2"/>
          </p:cNvCxnSpPr>
          <p:nvPr/>
        </p:nvCxnSpPr>
        <p:spPr>
          <a:xfrm flipV="1">
            <a:off x="3959280" y="5677920"/>
            <a:ext cx="5752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5" name="Straight Arrow Connector 40"/>
          <p:cNvCxnSpPr/>
          <p:nvPr/>
        </p:nvCxnSpPr>
        <p:spPr>
          <a:xfrm flipV="1">
            <a:off x="4022280" y="4737960"/>
            <a:ext cx="5770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6" name="Straight Arrow Connector 42"/>
          <p:cNvCxnSpPr>
            <a:stCxn id="303" idx="6"/>
          </p:cNvCxnSpPr>
          <p:nvPr/>
        </p:nvCxnSpPr>
        <p:spPr>
          <a:xfrm>
            <a:off x="6136920" y="2706840"/>
            <a:ext cx="564120" cy="75456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7" name="Straight Arrow Connector 43"/>
          <p:cNvCxnSpPr>
            <a:endCxn id="307" idx="2"/>
          </p:cNvCxnSpPr>
          <p:nvPr/>
        </p:nvCxnSpPr>
        <p:spPr>
          <a:xfrm flipV="1">
            <a:off x="6119280" y="3658680"/>
            <a:ext cx="469080" cy="1087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8" name="Straight Arrow Connector 45"/>
          <p:cNvCxnSpPr>
            <a:endCxn id="308" idx="2"/>
          </p:cNvCxnSpPr>
          <p:nvPr/>
        </p:nvCxnSpPr>
        <p:spPr>
          <a:xfrm>
            <a:off x="6119640" y="4635000"/>
            <a:ext cx="564480" cy="1645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9" name="Straight Arrow Connector 47"/>
          <p:cNvCxnSpPr/>
          <p:nvPr/>
        </p:nvCxnSpPr>
        <p:spPr>
          <a:xfrm flipV="1">
            <a:off x="6072120" y="4965480"/>
            <a:ext cx="629280" cy="72144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sp>
        <p:nvSpPr>
          <p:cNvPr id="320" name="TextBox 49"/>
          <p:cNvSpPr/>
          <p:nvPr/>
        </p:nvSpPr>
        <p:spPr>
          <a:xfrm>
            <a:off x="687240" y="403848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Iestāžu 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1"/>
          <p:cNvSpPr/>
          <p:nvPr/>
        </p:nvSpPr>
        <p:spPr>
          <a:xfrm flipH="1" flipV="1">
            <a:off x="1114560" y="4559400"/>
            <a:ext cx="28872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2"/>
          <p:cNvSpPr/>
          <p:nvPr/>
        </p:nvSpPr>
        <p:spPr>
          <a:xfrm flipV="1">
            <a:off x="1114560" y="3083040"/>
            <a:ext cx="1998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7"/>
          <p:cNvSpPr/>
          <p:nvPr/>
        </p:nvSpPr>
        <p:spPr>
          <a:xfrm>
            <a:off x="2511360" y="3657600"/>
            <a:ext cx="11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zultā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8"/>
          <p:cNvSpPr/>
          <p:nvPr/>
        </p:nvSpPr>
        <p:spPr>
          <a:xfrm flipV="1">
            <a:off x="2925720" y="3290760"/>
            <a:ext cx="28404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0"/>
          <p:cNvSpPr/>
          <p:nvPr/>
        </p:nvSpPr>
        <p:spPr>
          <a:xfrm flipH="1" flipV="1">
            <a:off x="3102120" y="4395600"/>
            <a:ext cx="23472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2"/>
          <p:cNvSpPr/>
          <p:nvPr/>
        </p:nvSpPr>
        <p:spPr>
          <a:xfrm>
            <a:off x="4317840" y="6402240"/>
            <a:ext cx="22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3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B2C1-31F0-40FE-A76C-CF2C59606A9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rezentācijas mērķ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24080"/>
            <a:ext cx="46195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Sniegt pārskatu par pētījuma rezultātiem un galvenajām atziņ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ēt par rādītāju noteikšanas un izmantošanas pieej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056D-8916-415A-915A-EBB77B736FA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F61-845E-4538-BD21-007C3751FB5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076720" y="2251080"/>
            <a:ext cx="40449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667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Daļa no nozares kopējās stratēģija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EC22-EC27-4B67-BEE8-D2505CC1A92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177840" y="1922400"/>
            <a:ext cx="8194680" cy="493416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le 5"/>
          <p:cNvSpPr/>
          <p:nvPr/>
        </p:nvSpPr>
        <p:spPr>
          <a:xfrm>
            <a:off x="851040" y="1922400"/>
            <a:ext cx="2412720" cy="5349960"/>
          </a:xfrm>
          <a:custGeom>
            <a:avLst/>
            <a:gdLst>
              <a:gd name="textAreaLeft" fmla="*/ 117720 w 2412720"/>
              <a:gd name="textAreaRight" fmla="*/ 2295000 w 2412720"/>
              <a:gd name="textAreaTop" fmla="*/ 117720 h 5349960"/>
              <a:gd name="textAreaBottom" fmla="*/ 5232240 h 5349960"/>
            </a:gdLst>
            <a:ahLst/>
            <a:rect l="textAreaLeft" t="textAreaTop" r="textAreaRight" b="textAreaBottom"/>
            <a:pathLst>
              <a:path w="21600" h="47892">
                <a:moveTo>
                  <a:pt x="3600" y="0"/>
                </a:moveTo>
                <a:arcTo wR="3600" hR="3600" stAng="16200000" swAng="-5400000"/>
                <a:lnTo>
                  <a:pt x="0" y="44292"/>
                </a:lnTo>
                <a:arcTo wR="3600" hR="3600" stAng="10800000" swAng="-5400000"/>
                <a:lnTo>
                  <a:pt x="18000" y="47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03D-939B-4128-83BD-7D65CB411D7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457200" y="371952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057040"/>
            <a:ext cx="59212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FCCE-FAF0-4D04-974B-4FF792E1088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6E6-685F-4009-8107-EB8CCD19118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asaiste ar politikas rezultātiem/mērķie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av precizēta un aktualizēta nozares stratēģija (loģiskais modelis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Nozares stratēģiska virziena trūkums apgrūtina iestāžu stratēģisko virzienu plānošanu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o politikas mērķu sasniegšana ir atkarīga no vairāku iestāžu darba rezultātiem, taču šobrīd šī saistība nav skaidri definēt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ēram, politikas virsmērķi “Samazināta noziedzīgu nodarījumu izdarīšana”  var ietekmēt gan VPD, gan IeVP, gan Valsts un Pašvaldību policija.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PD un IeVP darba apjomu lielā mērā ietekmē Kriminālsoda politikas piemērošana un izpilde (piespriestie sodi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Iestādēs nespēj tieši ietekmēt  savu klientu daudzumu un līdz ar to precīzi plānot savu darbu nākotnē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notiek sistemātiska politikas rezultātu rādītāju apkopšana valsts mērogā, salīdzinā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tiek veikta darbības ietekmes izvērtē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877-5167-46B4-943D-5D4AED4CF834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ienotas rādītāju sistēmas trūkums, kas neļauj vērtēt iestādes darbību kopumā, kā arī katras funkcijas dabu atseviš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ie rādītāji </a:t>
            </a:r>
            <a:r>
              <a:rPr b="0" lang="lv-LV" sz="2200" spc="-1" strike="noStrike" u="sng">
                <a:solidFill>
                  <a:srgbClr val="061140"/>
                </a:solidFill>
                <a:uFillTx/>
                <a:latin typeface="Calibri"/>
              </a:rPr>
              <a:t>lielākoties</a:t>
            </a: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 tiek vākti statistikas vajadzībām, nevis darbības rezultātu vērtēšanai: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ie rādītāji norāda uz padarīto darba apjomu (piem., klientu skaits, kuriem piespriests piespiedu darbs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ajos rādītājos trūkst fokusa uz kvalitātes un efektivitātes vērtēšanu (piem., izlīgumu īpatsvars, kuros tika panākts izlīgums) 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ā rādītāju sistēmā ir grūti izsekot rādītāju saistībai ar iestādes konkrēto mēr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Padziļinātas finanšu analīzes trūkums (piem., probācijas klienta apkalpošanas pašizmaksa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iem rādītājiem nav definētas vēlamās sasniedzamās vērtības (ko vēlamies sasniegt nākotnē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FF5-E848-495B-8B9B-262E9EF08A8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D0B-CF8F-42D6-A756-A75A30F7A82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Iekšējie proces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Vienota un regulāri organizēta procesa trūkums rādītāju apkopošanā un analīzē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ieviesta ikgadējas rādītāju plānošanas un vēlāk rezultātu analīzes “tradīcija”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rādītāju vērtēšana drīzāk notiek pret iepriekšējā periodā paveikto darbu.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apkopošanā nav vienotas vietnes datu uzkrāšanai, tā vietā tiek izmantots liels atskaišu daudzums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katrai funkcijai ir atsevišķas atskaišu form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vienotas sistēmas, kur visi dati tiek uzkrāt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2F2-3A00-4FB2-B151-06C257B1DD0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509-EC87-4911-A459-75273E956FC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Starpiestāžu sadarbīb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2034720"/>
            <a:ext cx="81471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Piekļuves trūkums ārējām IS nedod iespēju apkopot iestādei svarīgus rādītājus (piem., recidīva rādītājus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ācijas apmaiņas trūkums starp iestādēm neļauj pilnvērtīgi analizēt iestādes klienta profil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zsekot klienta sodāmības vēstur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ērtēt iestādes darbības ietekmi uz klientu pēc darbu pabeigšanas ar klientu.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B54-D4A0-4E25-808F-38DD34A2AC7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49B-154F-4097-AC52-56F29950376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57200" y="458316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57040"/>
            <a:ext cx="6103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32F4-4765-4343-8399-D7A32940A7B7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4DBF-1B1C-431A-B91B-010CA17464B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zares stratēģijas/mērķu precizēšana, iesaistot visas iestādes (Tiesas, Policija, Prokuratūra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estāžu rādītāju saraksta precizēšana atbilstoši definētiem mērķ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vēlamo sasniegšanas vērtību noteikšana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skaita pārskatīšana (vai nav par daudz?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Sasaiste ar nozares mērķiem (nozares stratēģijas kaskadēšana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020D-910B-401F-8E06-280C2B09B53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914-E989-45E9-AA71-A10A7CD4CF7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5083200" y="2394000"/>
            <a:ext cx="4060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procesu/atbildības precizēšana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rīka/ sistēmas izvēle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ienots MS Excel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Speciāli izveidota Acces vai Web datu bāze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TM QPR Balanced Scorecard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242568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rmatīvo aktu grozīšana, atvieglojot informācijas apmaiņu starp iestādēm (informācija par klientu sodāmību, u.c.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olitikas rezultātu rādītāju apkopošanas sistēmas izveide nozares mērogā,  salīdzināšana citu valstu rādītāj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ntegrācija ar valsts līmeņa rādītāju sistēmu (it kā paredzēts tādu veidot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5083200" y="1746360"/>
            <a:ext cx="40608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2178000"/>
            <a:ext cx="6985080" cy="62064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273040"/>
            <a:ext cx="7467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2EB3-544D-46C0-8901-C1B805501AD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0182-5BF8-4EEB-BAA6-237B3DAA627E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68000" y="44096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PALDIES!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JŪSU JAUTĀJUMI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 Solovjovs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9209928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.solovjovs@isconsulting.lv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 Linkuma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6174127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.linkuma@isconsulting.lv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4240" y="1646280"/>
            <a:ext cx="3911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Īsi par p</a:t>
            </a: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ētījumu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Rezultatīvo rādītāju sistēmas un datu analīzes prakses izpēte Ieslodzījuma vietu pārvaldē un Valsts probācijas dienestā 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Daļa no Norvēģijas valdības  divpusējā finanšu instrumenta projekta Nr. LV0024 „Latvijas probācijas un ieslodzījuma vietu sistēmas personāla kapacitātes celšana”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Izpildītājs – IS Consulting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Laiks – 2010.gada 20.augusts – 15.decembris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0339-9C5A-423F-AE5D-8EDF51D1EF8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33B-8568-4300-85A1-C32BF2A2D667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Darba uzdevum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0000" y="2224080"/>
            <a:ext cx="4906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vērtēt Ieslodzījuma vietu pārvaldes un Valsts probācijas dienesta rezultātu un rezultatīvo rādītāju sistēmas un ar tām saistīto datu uzkrāšanas un analīzes praks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 priekšlikumus rezultatīvo rādītāju sistēmas un datu analīzes pilnveidošan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55FD-6B41-4D4E-9D0D-DD7FD3D6E52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DDB6-61D4-42E8-8D45-4F1E1F2EFB9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2600" y="2732040"/>
            <a:ext cx="3030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EA6F-1E7E-4FF2-BB78-FA4AB092951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7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914-F9F5-4929-9D32-8A74E15111D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7680" y="2714760"/>
            <a:ext cx="8281800" cy="2003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jekta izpildes pieeja (soļi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aveiktai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Novadītas 28 intervijas ar abu iestāžu pārstāvjie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Organizētas 3 fokusgrupas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apspriešanas fokusu grupa (VPD un IeVP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iegūšanas, apkopošanas un analīzes proces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714C-9578-44B0-B8DF-AAD7C4D9EA6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FE04-5E3A-4FF5-A162-4277DA100A88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076720" y="2394000"/>
            <a:ext cx="381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Izveidota rādītāju karte/ saraksts katrai iestādei atsevišķi (~130 + 150 rādītāji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Darbības rezultāta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aksturo darba kvalitāti/ efektivitāti, tie rādītāji kas tieši atkarīgi no iestādes darbība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“Izlīgumu īpatsvars, kuros tika panākts izlīgums”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Informatīvie rādītāji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ādītāji, kas nav tieši atkarīgi no konkrētas iestādes darbības (šie rādītāji pamatā raksturo izejas datus 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piespriesto piespiedu darbu stundu skaits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Politikas rezultātu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 raksturo ietekmi uz sabiedrību plašākā mērogā (parasti to ietekmē vairāki faktori)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visi ar recidīvu saistītie rādītāji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7B2-1AA1-4458-93B9-691B608CC94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EBF-446A-4AD4-9716-FA48F709B7B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PD darbības rezultātu kart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A9A5-5285-4272-9964-D27E78857A8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43E9-560A-476E-A247-E571784925B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-36360" y="1674720"/>
            <a:ext cx="9234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user</cp:lastModifiedBy>
  <dcterms:modified xsi:type="dcterms:W3CDTF">2010-12-15T08:49:08Z</dcterms:modified>
  <cp:revision>52</cp:revision>
  <dc:subject/>
  <dc:title>Slide 1</dc:title>
</cp:coreProperties>
</file>